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4D3-25DD-4849-8603-D9D90E06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EB2-6C95-4A7A-B2C7-D228B701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DED-D4D8-44DC-B5B5-630BF7BC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08F-9111-44F2-B9ED-464BC526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323-B864-46D0-8095-10AD89FC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225-1882-4437-AA2F-71F97FAA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8C5-27EE-4FDE-B14E-2BFF474B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AED-30DC-4839-AFB3-F13DFBE9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783-7DC8-45FF-BD55-79602DB1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95F-8D1F-4D5C-B7A0-7AD19961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9EC-516F-4C9C-8780-73D0E29E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7B3-6B24-4EF6-B9D9-ABB0F35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8D31-D868-4FCF-9777-72761165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e Suez Canal from Space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Suez%20Canal%20today"/>
          <p:cNvPicPr/>
          <p:nvPr/>
        </p:nvPicPr>
        <p:blipFill>
          <a:blip r:embed="rId2"/>
          <a:stretch/>
        </p:blipFill>
        <p:spPr>
          <a:xfrm>
            <a:off x="4343400" y="1295280"/>
            <a:ext cx="3224160" cy="426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905120"/>
            <a:ext cx="236232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1-1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s found on p.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al is man-made. What is its na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name of this landfor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is canal connects the Mediterranean Sea to what other body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V="1">
            <a:off x="1981080" y="2666880"/>
            <a:ext cx="3048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289548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648320" y="380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terranean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924680" y="3124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82880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uez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614600" y="45370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ai Peni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219320" y="6357960"/>
            <a:ext cx="23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d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egypt"/>
          <p:cNvPicPr/>
          <p:nvPr/>
        </p:nvPicPr>
        <p:blipFill>
          <a:blip r:embed="rId3"/>
          <a:srcRect l="0" t="4347" r="0" b="4666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0" y="0"/>
            <a:ext cx="2438280" cy="1059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1-14 AND 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Title 1"/>
          <p:cNvSpPr/>
          <p:nvPr/>
        </p:nvSpPr>
        <p:spPr>
          <a:xfrm>
            <a:off x="83808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’s Oil Rese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3:04:17Z</dcterms:created>
  <dc:creator>Selena Ramsey</dc:creator>
  <dc:description/>
  <dc:language>en-US</dc:language>
  <cp:lastModifiedBy>poweruser</cp:lastModifiedBy>
  <dcterms:modified xsi:type="dcterms:W3CDTF">2011-11-17T13:46:14Z</dcterms:modified>
  <cp:revision>21</cp:revision>
  <dc:subject/>
  <dc:title>Slide 1</dc:title>
</cp:coreProperties>
</file>